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4B41-5FF9-4A26-A633-939009700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2F2B-E92C-4F51-9FCF-D9767FEB9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9334-C447-47F8-A010-43ACD3AF7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824F-75AB-40D4-B34F-A18BF9C72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B0D2-1103-4886-BC5C-549037E30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6031-8E3E-47EA-A8A2-EDB8A0C36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3785-01FD-444B-84FE-3E2151E59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7D32-5CAC-45BD-AF56-D9D15ABA4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EB0A-E65E-4E62-A775-6AE1601E5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томатологије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Вештина комуникације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штина комуникације са пацијентима у вези са учешћем у клиничком истраживању (студији) 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ф. др Драган Милован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рмакологија и токсик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ицински факултет у Крагујев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ставне једин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ервју са пацијентом који се укључује у клиничку студиј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ормисани пристанак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уникација са сарадником у лече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линичка студија и испита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ита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видуална особа која учествује у клиничкој студији, било да прима нови лек који се испитује или  учествује као контр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уп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грут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ормисани приста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ржавање у студ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ветовање током студ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кументи за етички од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теријал који ће се користити за регрутовање пације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ормација за пацијента на српском јез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ормулар за пристанак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пис осигурања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грутовање - истражив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својити стратегије доказане у претходним студ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сарадњу лекара опште прак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ордини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 мултипле страте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шћење евиденци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олесника са стањем од интер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шћењ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пућивања од ле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шћењ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пућивања од лаборато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шћење мед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збедити повратне информације 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претку регрутациј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формисани пристан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а се испитује у овој студи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та је хипотеза студиј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 ће се користити резулта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чему се третман у студији разликује од уобичајеног лечењ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ве су процедуре предвиђене код учешћа у студиј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ви су ризици и непријатности од учешћа у студиј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формисани пристанак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ве су користи по пацијента и друш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ли постоји алтернативно лечењ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ји начин је обезбеђена приватност података испита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ли је предвиђена компензација за учешће у студиј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ли је учешће у студији добровољ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 којим условима није дозвољено Ваше учешће у студиј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формисани пристанак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 којим условима није дозвољено Ваше учешће у студиј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оји начин се остварује контакт са истраживачи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акт адресе и подац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раживач за главни конт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раживач за резервни конт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ilanče Sin</cp:lastModifiedBy>
  <dcterms:modified xsi:type="dcterms:W3CDTF">2023-02-04T19:53:19Z</dcterms:modified>
  <cp:revision>33</cp:revision>
  <dc:subject/>
  <dc:title>Slide 1</dc:title>
</cp:coreProperties>
</file>